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B57-9EAA-45D4-B8E7-C5EE7CBC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46B-EF56-4CCE-91A9-907D2C1D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41B-EB75-4D2A-962F-366D6068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329-764A-413A-B063-51655F7F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11E7-4B8D-4C7C-BB0C-AB6033EC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19B3-60B1-405C-AC26-5A591C8F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78D2-E140-44CF-9E25-605DC83C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EF3F-B941-4D26-9520-75316F6C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C482-D07D-4DD8-B14F-9AAF17DE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D1CD-3A4C-4021-A7BC-AF2D539E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7CD0-AF5B-47B4-934F-083A0DC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9E5-2D00-4506-BEE5-AD6A0940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5667-6BCB-414B-B4A4-9179734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7BF-F644-4B56-B0F3-1A1496B4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350D-E465-4A0E-82B1-48F6BAB8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9464-7AB9-45B8-9FA8-620B3E3C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52B6-4CA4-45CD-94BB-89A03D35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6F7C-9939-4ABD-A8A3-DA3701CB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F270-B10A-47A7-8755-DE3FF387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6697-8186-4C22-AA23-5E1616F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3892-649E-4E45-98FE-81A329A7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2D70-4C79-42EB-B472-70D5A450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455-271F-4E8D-B2B4-889DC0A9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B0C7-F67A-4561-989F-6056B41D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2F52-C878-4AA5-A51C-B79C4907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9DFB-7FC0-4BC8-8874-3E56C0EE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922C-A9F2-4F3E-B40A-68FE3628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6500-5087-43C4-ADFD-6238B3F2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3632-07F3-4FBD-A575-85683F40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7008-07C6-4654-9D54-57E2DDE0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8F63-F5E0-4507-B591-62437160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FD022-7DDB-4BDC-A3AC-DBB137A3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4412D-C7C4-46F1-A5A1-0AB24D6E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897-5601-484D-B015-05EC45D5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4AA5-66DC-411B-8CE0-6548D62C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11569-1B4A-4945-94C3-1B4576A0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31D0-C82F-428B-9318-FDE3DD22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40FB-72B8-45D2-B4A7-3BB4514A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2E06-9215-485A-89C0-025DC2C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5B3A-4071-476D-8FFB-811A848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5F5C2-16C0-4D4D-BC74-1117D0D9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C6EB-BAD7-4ACF-BBC9-BC22EFC8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1CC8-22FC-40AF-8966-4BF17B8D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917-C7A7-4616-A561-3E2D345C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C79-9D7B-4922-9EB1-FDB056FD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1F7-C23B-4E6C-9242-1CAB88CF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DD5-AD62-4EBD-AFF3-B215874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742-D935-40CC-A5C5-CA3F947F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607C-7952-4ABE-B28B-FF1DB3CF05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BA80-B50A-4425-B6A2-4B03477DA4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4909-6FB0-4BEF-8637-B24EDB4079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D192-8E23-48FF-A60E-4C55FFC57B7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81160" y="1255680"/>
            <a:ext cx="8710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i Mi &amp; Zhi 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CE 632 – Fall, 200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iversity of Virgin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CRCCtrl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3" descr="CRCGenerator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Content Placeholder 3" descr="CRCLoopBody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隶书"/>
              </a:rPr>
              <a:t>Optimization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etric: Total energy consum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activ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leakag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eff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lkg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Kno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wer 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DD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(subthreshold desig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bust, require C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horten operation d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"/>
              <p:cNvSpPr txBox="1"/>
              <p:nvPr/>
            </p:nvSpPr>
            <p:spPr>
              <a:xfrm>
                <a:off x="2004840" y="3124080"/>
                <a:ext cx="48103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echnology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TM 90nm Techn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ircuit Descriptio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tli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imulation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hematic-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ftware: FPGA Advantage 7.0 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rcuit-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ftware: Cadence 2005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imulator: Ocean with Spectr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ppro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3" descr="diagram1.bmp"/>
          <p:cNvPicPr/>
          <p:nvPr/>
        </p:nvPicPr>
        <p:blipFill>
          <a:blip r:embed="rId1"/>
          <a:srcRect l="0" t="2180" r="0" b="0"/>
          <a:stretch/>
        </p:blipFill>
        <p:spPr>
          <a:xfrm>
            <a:off x="1185840" y="2209680"/>
            <a:ext cx="677232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Spectre Simulation Resul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7086600" cy="4684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1600200" y="533412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Data word: 0010 1001 0010 110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Key word:    1101 0010 0001 01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Output:       1011 0001 0001 01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396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3276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kage Current 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Content Placeholder 8" descr="Snap1.jpg"/>
          <p:cNvPicPr/>
          <p:nvPr/>
        </p:nvPicPr>
        <p:blipFill>
          <a:blip r:embed="rId1"/>
          <a:stretch/>
        </p:blipFill>
        <p:spPr>
          <a:xfrm>
            <a:off x="2895480" y="1371600"/>
            <a:ext cx="5857920" cy="4495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152280" y="3581280"/>
                <a:ext cx="2743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TextBox 11"/>
          <p:cNvSpPr/>
          <p:nvPr/>
        </p:nvSpPr>
        <p:spPr>
          <a:xfrm>
            <a:off x="380880" y="1371600"/>
            <a:ext cx="23623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nential Reduction as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ecreases due to DIBL effe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304920" y="4800600"/>
            <a:ext cx="281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akage Current is independent of  CLK r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Current Waveform in One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7010280" cy="43340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0" y="2133720"/>
            <a:ext cx="220968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avg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 = α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0→1</a:t>
            </a: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f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eff</a:t>
            </a: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DD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nstantia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0" y="2133720"/>
            <a:ext cx="236232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traight Connector 7"/>
          <p:cNvSpPr/>
          <p:nvPr/>
        </p:nvSpPr>
        <p:spPr>
          <a:xfrm flipV="1">
            <a:off x="0" y="2209320"/>
            <a:ext cx="236232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152280" y="3733920"/>
            <a:ext cx="2057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宋体"/>
              </a:rPr>
              <a:t>A higher CLK rate helps reduce energy consumption for a certa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  <a:ea typeface="宋体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tal Energy per CRC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752480"/>
          <a:ext cx="4038120" cy="4495680"/>
        </p:xfrm>
        <a:graphic>
          <a:graphicData uri="http://schemas.openxmlformats.org/drawingml/2006/table">
            <a:tbl>
              <a:tblPr/>
              <a:tblGrid>
                <a:gridCol w="785160"/>
                <a:gridCol w="852840"/>
                <a:gridCol w="1024200"/>
                <a:gridCol w="1375920"/>
              </a:tblGrid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ota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n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0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8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0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6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3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3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6E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4E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Text Placeholder 29"/>
          <p:cNvGraphicFramePr/>
          <p:nvPr/>
        </p:nvGraphicFramePr>
        <p:xfrm>
          <a:off x="4724280" y="3429000"/>
          <a:ext cx="441972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Text Placeholder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3429000"/>
                    <a:ext cx="4419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roblem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trib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m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Q &amp;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ergy Consumption Pl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3" descr="Snap2.jpg"/>
          <p:cNvPicPr/>
          <p:nvPr/>
        </p:nvPicPr>
        <p:blipFill>
          <a:blip r:embed="rId1"/>
          <a:stretch/>
        </p:blipFill>
        <p:spPr>
          <a:xfrm>
            <a:off x="3164040" y="1600200"/>
            <a:ext cx="597996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228600" y="1523880"/>
            <a:ext cx="289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ptimal supply voltage is around  0.3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kage energy consumption starts to dominate in the sub-threshold re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kage current is taking up a large proportion of average curr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C-processing circuit is simulated in FPGA and Ca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verage and leakage currents are simul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ergy consumption comparison for different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ptimization for minimum energy consum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ture 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multiple power supplies to speed up the critical pa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ze up some parts of the circuit to increase sp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 high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NMOS to the PDN to reduce leak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Q and A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RFID appl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RFID security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1" descr="RFID_backscatter"/>
          <p:cNvPicPr/>
          <p:nvPr/>
        </p:nvPicPr>
        <p:blipFill>
          <a:blip r:embed="rId1"/>
          <a:stretch/>
        </p:blipFill>
        <p:spPr>
          <a:xfrm>
            <a:off x="1752480" y="2590920"/>
            <a:ext cx="518184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blem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nstrain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ergy – foremost constra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seek to find a feasible way of implementing low-power data encryption on RFID ta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ib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lemented the core hash function (i.e., CRC-Half) of CRC-MAC with PTM 90nm technolo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energy at different operating volt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ve an optimal operating voltage point for CRC-MA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the trend of leakage current of the circu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C-MAC Brief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1. A hardware implementation of CRC-MA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481040" y="1757520"/>
            <a:ext cx="618192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C-MAC Briefing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254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2. C implementation of CRC-MAC as keyed one-way 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781280" y="1662120"/>
            <a:ext cx="5305320" cy="4648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1773360" y="2046240"/>
            <a:ext cx="216360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2398680" y="5475240"/>
            <a:ext cx="4106880" cy="554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ircuit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3. A symbol view of CRC-Hal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Content Placeholder 4" descr="CRCHalf_sch.bmp"/>
          <p:cNvPicPr/>
          <p:nvPr/>
        </p:nvPicPr>
        <p:blipFill>
          <a:blip r:embed="rId1"/>
          <a:srcRect l="2509" t="29957" r="2509" b="16643"/>
          <a:stretch/>
        </p:blipFill>
        <p:spPr>
          <a:xfrm>
            <a:off x="217440" y="1879560"/>
            <a:ext cx="8690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6" descr="CRCEnable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7:30:54Z</dcterms:created>
  <dc:creator>QI MI</dc:creator>
  <dc:description/>
  <dc:language>en-US</dc:language>
  <cp:lastModifiedBy>JCC</cp:lastModifiedBy>
  <dcterms:modified xsi:type="dcterms:W3CDTF">2008-12-02T18:57:59Z</dcterms:modified>
  <cp:revision>293</cp:revision>
  <dc:subject/>
  <dc:title>Implementing Low-Power CRC-MAC for RFID Circuits</dc:title>
</cp:coreProperties>
</file>